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135-1060-41D4-9605-9A4F96A2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014-C7D9-4B4C-9827-19A4762B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987-B3B5-4C2F-9288-2C84448F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6FC-AA0A-4666-BB72-2B8E950E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DAF0-67F4-49C4-8554-D6939FFA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4FE1-045C-4749-A3B6-6E421778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64BD-F46B-4CFF-8344-6A07E29E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97D-151E-4A5C-B257-5257A253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06AC-4755-474E-9F1F-299955E2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B186-323F-48A9-86A5-1D65070B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DB75-A224-4EEE-AA04-DA2DF5E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B0A-9B0E-4EB8-8B98-0B8DC643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A297-AE3B-440D-A55C-02F75166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20B4-61ED-4D17-ABD2-530E8727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7EE8-527D-40AB-B8B2-DBB3F04B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1B41-3E3C-46F0-9C44-F47AD88A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F566-065E-42D0-8BFC-89544868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A2F-34BD-468E-9CF4-DDD3B9C3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DCF-98D0-41CD-B697-F35C8D5F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311-9B6C-476A-9CB5-3F59BECA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D8F-AB23-455D-BA8C-461FABFC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307-7982-44A0-A57C-3869016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6A3-6F5C-4EBD-9DF5-E672BD5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FBA-BCE6-4B1B-B352-3A4FA06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5B9A-CBC3-4342-A9E0-DA1ADB5E76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2FB1-C086-467F-9962-11C5924CE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50920" y="1413000"/>
            <a:ext cx="82296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Проект: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Как складывалась геометр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5" descr="J0336887"/>
          <p:cNvPicPr/>
          <p:nvPr/>
        </p:nvPicPr>
        <p:blipFill>
          <a:blip r:embed="rId1"/>
          <a:stretch/>
        </p:blipFill>
        <p:spPr>
          <a:xfrm>
            <a:off x="360360" y="4280040"/>
            <a:ext cx="1584360" cy="1915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792000" y="31989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сновополагающий вопрос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 чего началась геометр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59800" y="4730760"/>
            <a:ext cx="30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ff"/>
                </a:solidFill>
                <a:latin typeface="Arial"/>
              </a:rPr>
              <a:t>Участник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ff"/>
                </a:solidFill>
                <a:latin typeface="Arial"/>
              </a:rPr>
              <a:t>Учащиеся 8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11" descr="new_pa1"/>
          <p:cNvPicPr/>
          <p:nvPr/>
        </p:nvPicPr>
        <p:blipFill>
          <a:blip r:embed="rId2"/>
          <a:stretch/>
        </p:blipFill>
        <p:spPr>
          <a:xfrm>
            <a:off x="7037280" y="412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" y="115920"/>
            <a:ext cx="78598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роблемные вопро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33"/>
                </a:solidFill>
                <a:latin typeface="Times New Roman"/>
              </a:rPr>
              <a:t>Основоположники геометри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33"/>
                </a:solidFill>
                <a:latin typeface="Times New Roman"/>
              </a:rPr>
              <a:t>Зачем потребовалась геометри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33"/>
                </a:solidFill>
                <a:latin typeface="Times New Roman"/>
              </a:rPr>
              <a:t>Была ли математика в древнем Восток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Старинные системы счета?</a:t>
            </a:r>
            <a:r>
              <a:rPr b="0" lang="ru-RU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чебные вопро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Основные свойства простейших геометрических фигу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Площадь четырехугольн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Четырехугольники(теорема Фалес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Теорема Пифаг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История древнего мира(Египта,Востока,Рим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Системы счис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33"/>
                </a:solidFill>
                <a:latin typeface="Times New Roman"/>
              </a:rPr>
              <a:t>Работа в текстовом редак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9" descr="1721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29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Чертёж для доказательства №1"/>
          <p:cNvPicPr/>
          <p:nvPr/>
        </p:nvPicPr>
        <p:blipFill>
          <a:blip r:embed="rId2"/>
          <a:stretch/>
        </p:blipFill>
        <p:spPr>
          <a:xfrm>
            <a:off x="7308720" y="479736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755640" y="404640"/>
            <a:ext cx="72738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нный проект несет информационно – исследовательскую функцию, т.е. сбор информации, ее изучение и систематизация, представление полученных результатов. Готовые рефераты несут информационную, познавательную функции для того, чтобы развить интерес и выработать постоянную потребность к получению зна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15" descr="J0178671"/>
          <p:cNvPicPr/>
          <p:nvPr/>
        </p:nvPicPr>
        <p:blipFill>
          <a:blip r:embed="rId1"/>
          <a:stretch/>
        </p:blipFill>
        <p:spPr>
          <a:xfrm>
            <a:off x="2987640" y="4437000"/>
            <a:ext cx="2700360" cy="2062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Дидактические цели проекта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видеть знакомое в незнаком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ширение кругоз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ить интерес к истории геометр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учить работе с большими объемами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обретение навыков самостоятельной работы и в груп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5" descr="J0196260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201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1963080" y="37296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Методические 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93640" y="857160"/>
            <a:ext cx="84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учить пользоваться  справочной литературо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учить анализировать каждый элемент полученной информ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своить компьютерный инструментарий для оформления результат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учить синтезировать информацию( соединять элементы получен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нформации в единое целое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5" descr="J0237831"/>
          <p:cNvPicPr/>
          <p:nvPr/>
        </p:nvPicPr>
        <p:blipFill>
          <a:blip r:embed="rId1"/>
          <a:stretch/>
        </p:blipFill>
        <p:spPr>
          <a:xfrm>
            <a:off x="5651640" y="3789360"/>
            <a:ext cx="1812960" cy="187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229600" y="3417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50920" y="1628640"/>
            <a:ext cx="80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Темы реферат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«Историческая характеристика эпохи возникновения геометр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«Ученые древности и их научные труд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«Связь между геометрией древних веков и современной геометрие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"/>
              </a:rPr>
              <a:t>Создание презентации на основе рефер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Архимед1"/>
          <p:cNvPicPr/>
          <p:nvPr/>
        </p:nvPicPr>
        <p:blipFill>
          <a:blip r:embed="rId1"/>
          <a:stretch/>
        </p:blipFill>
        <p:spPr>
          <a:xfrm>
            <a:off x="7180200" y="0"/>
            <a:ext cx="1963800" cy="278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0178115"/>
          <p:cNvPicPr/>
          <p:nvPr/>
        </p:nvPicPr>
        <p:blipFill>
          <a:blip r:embed="rId2"/>
          <a:stretch/>
        </p:blipFill>
        <p:spPr>
          <a:xfrm>
            <a:off x="7812000" y="4508640"/>
            <a:ext cx="1166760" cy="208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Так же несколько учеников готовят доклады на каждое занятие по следующему плану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о 2-му  уроку ученики готовят доклады на те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Как люди учились счит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Старинные системы сч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Зачем потребовалась геометр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Математика древнего Восто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 3-му уроку ученики готовят доклады на те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Фале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Пифаг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Евкл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Архиме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 4-му уроку ученики готовят доклады на те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Античная математ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Геометрия совреме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3276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170360" y="37296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826920" y="1049400"/>
            <a:ext cx="7274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нциклопедия для детей. Том 11 – математика. М.Д. Аксенова – М. «Аванта +». 2000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Путешествие в историю математики, или как учились люди считать». Педагогика-пресс, А. Свечни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бник по геометрии 7-11 класса. Погар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100 великих ученых». А.К. Самин. «Вече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Олма - пресс Образование». М. Москва. 200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08:31:35Z</dcterms:created>
  <dc:creator>Admin</dc:creator>
  <dc:description/>
  <dc:language>en-US</dc:language>
  <cp:lastModifiedBy>Admin</cp:lastModifiedBy>
  <dcterms:modified xsi:type="dcterms:W3CDTF">2010-05-30T10:33:0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